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05A-3AEE-4B8B-BE6D-8F54C666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4C4-E297-484E-8481-0294D930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B29-7197-48CC-9620-191F480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A2E-98A2-412C-A4C2-A19D1B19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206-AB9E-447D-B271-6110B670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8B70-365D-456C-8D44-6D13B9E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6CC-E500-447A-A9FE-92CCDE0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2CD0-336A-4BDD-847B-986EF6A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66F4-B15A-4D7A-9DE1-BE1ADEC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9AA-3148-4559-A95D-0D24DCDF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BC61-3A0C-48CE-B0E8-D1CCDDBB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573-D8B1-4700-889D-F3B0791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7863-6668-4E8D-8202-BD4B4CD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C2D-4A76-454B-8ECE-BF0DD46A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4EA-6425-4483-8A8B-5A2ACAB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A2C-1C2C-4D1C-9758-2E947806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894A-42DA-472D-B25C-4F9A6D7A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BB75-684B-46FB-861D-F41622AF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B123-4651-4566-9225-2525D62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EEE7-BC9E-4FC5-98C4-C335AA4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42E3-D7AC-4F38-9768-FEFD9FD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784B-C74D-494F-B78B-1A86DB0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F32-AD0C-470B-9DD4-573E709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ACC4-8B44-4BBB-B92E-F1773174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A865-A35A-4F65-B718-9065DA6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3B24-F551-4A43-A38A-F497A20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AD38-157B-407C-AB74-D0285D7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34EE-43A8-4229-A7E7-0D7007E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AEDE-8D07-4C88-AD76-D517CCC2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060F-3494-4C8B-9C3F-F731B64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25ED-6491-42C7-90A2-88859A26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CE13-5D5F-4431-8138-6D555984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87B1-C055-42FE-AED6-FE808FEF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4D9-50CC-4A5D-A74C-BF08DC6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2894-7294-402E-BD7E-D3F54F9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9229-B480-43D6-9AB7-EA6D7B1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AAD6-0946-4AA9-88B1-A96EC2E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0F9B-500E-43F7-A2B7-5C43463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BB6B-172B-4FF7-A69D-DED9B94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8730-3C88-4BA4-8BCE-2CBDD05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C783-D21C-4BDA-80CD-0C49C6D9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FBC5-3EC9-4C05-94D5-769413BC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352F-B7E7-4B86-A36C-372D5A1C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5DC3-5948-4240-96C9-BEDD7A4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D4C-E9F9-4E79-B1C3-560B751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FBE7-93BB-41F1-A6D8-55B0C15E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625D-AEC3-487B-8AD9-77574DD4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E5E7-E38A-40EF-BC7F-696543E7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3DB4-D53A-4A29-9C3E-EEA0458E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103EE-7E31-42C7-A495-622FE5A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936A-F528-443D-B131-9521123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8316-0DE9-409F-B06A-E5B304D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D2C7-7369-49C2-9E63-4D04709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B42C-948C-42EE-9127-2E4168F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CA98-0BC7-42C6-8942-1F1B3DEE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EA-761C-43F3-BC5A-A4119E5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E8787-2EC5-4833-A9BE-6B772DB6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8BE-D552-460C-B8E8-FE4C18E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0A8-704D-48E6-9F3E-783E8D0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1DE-E87D-4986-81B3-D071FAE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FC4D-CD0D-4F60-B6FE-23CFA9EE4F4D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9AB7-C2BA-4EAD-A41E-95610FB59F6A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4024-EB98-4582-ABDC-894EDA354BEE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F27-CE83-41A3-B4BB-29267F54CD6A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4CF-1678-42CD-B713-D7DB64EE2BBC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885e9"/>
                </a:solidFill>
                <a:latin typeface="Verdana"/>
              </a:rPr>
              <a:t>Can You Identify The Habitat?</a:t>
            </a:r>
            <a:endParaRPr b="1" lang="en-US" sz="45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386"/>
                </a:solidFill>
                <a:latin typeface="Verdana"/>
              </a:rPr>
              <a:t>A Visual 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800240"/>
            <a:ext cx="818352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en.wikipedia.org/wiki/Tide_p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www.fortrossstatepark.org/tidepooltips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http://images.google.com/imgres?imgurl=http://www.mchsmuseum.com/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560" y="5331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activity, you will use everything you have learned about marine biology to determine which habitat is best represented by the sli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include whether each slide presents biotic or abiotic pieces of the environ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underlying link between the images found on the slid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ole do people play in the environment that is depict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how the habitat presented is being chang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5331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task is to go through each slide and produce with your partner the dialogue that will go along with the visual materials presen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llowing slideshow will be shown to the entire class, and you will be responsible for answering the questions presented to you on page tw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be graded on accuracy of information as well as completeness of respon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 free to use notes or any other acceptable resource when creating your nar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A Truly Unique Habit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76360" y="1316160"/>
            <a:ext cx="3809880" cy="34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733920" cy="3505320"/>
          </a:xfrm>
          <a:prstGeom prst="rect">
            <a:avLst/>
          </a:prstGeom>
          <a:ln w="0">
            <a:noFill/>
          </a:ln>
        </p:spPr>
      </p:pic>
      <p:pic>
        <p:nvPicPr>
          <p:cNvPr id="227" name="MSj0441657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73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533520" y="334332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4648320" y="3352680"/>
            <a:ext cx="4000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0115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8386"/>
                </a:solidFill>
                <a:latin typeface="Verdana"/>
              </a:rPr>
              <a:t>We Walk Among Them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62720" y="533160"/>
            <a:ext cx="2239920" cy="42116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noramic view taken in Santa Cruz, California from spray/splash zone to low tide z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ttp://en.wikipedia.org/wiki/File:Tide_pools_in_Santa_Cruz_from_Spray-splash_zone_to_low_tide_zone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rcRect l="8385" t="0" r="8385" b="0"/>
          <a:stretch/>
        </p:blipFill>
        <p:spPr>
          <a:xfrm>
            <a:off x="420840" y="434880"/>
            <a:ext cx="592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743200" cy="2492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 rot="2429400">
            <a:off x="2863440" y="1060560"/>
            <a:ext cx="3581280" cy="4038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5"/>
          <a:stretch/>
        </p:blipFill>
        <p:spPr>
          <a:xfrm>
            <a:off x="457200" y="4572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240" name="MSj04416350000[1]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85e9"/>
                </a:solidFill>
                <a:latin typeface="Verdana"/>
              </a:rPr>
              <a:t>Man’s Impact on the Environment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472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2133720" cy="472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2971800" y="380880"/>
            <a:ext cx="3429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MSj0441638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550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00:02Z</dcterms:created>
  <dc:creator>Corporate Edition</dc:creator>
  <dc:description/>
  <dc:language>en-US</dc:language>
  <cp:lastModifiedBy>tFrankie</cp:lastModifiedBy>
  <dcterms:modified xsi:type="dcterms:W3CDTF">2010-02-08T16:31:07Z</dcterms:modified>
  <cp:revision>16</cp:revision>
  <dc:subject/>
  <dc:title>Can You Identify The Habitat?</dc:title>
</cp:coreProperties>
</file>